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AB5-F7E5-47A6-A6CB-25EA90DC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C8F-D1BF-4F8B-B06E-455CE291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A56-1D62-4031-A1A8-164B39B4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F8C-355E-48D3-AE5B-B7211220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C2A-0C66-40C6-8861-5E678793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8D0-9C16-4215-8482-109C3E5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7B6-3C8C-478D-8E2D-AF85653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CDF-BA10-414F-B686-40022C5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BC7-F7E4-4383-B857-36029CE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FE6-E98A-4776-9027-CFB6179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8B5-BE4A-430B-89F6-D62462F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2CF-E0D2-4DF4-9C40-1D1FD67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629C-294B-4361-AA49-C6ACE0F68E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Garamond Pro Bold"/>
              </a:rPr>
              <a:t>The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lvira-page-4"/>
          <p:cNvPicPr/>
          <p:nvPr/>
        </p:nvPicPr>
        <p:blipFill>
          <a:blip r:embed="rId1"/>
          <a:stretch/>
        </p:blipFill>
        <p:spPr>
          <a:xfrm>
            <a:off x="4724280" y="228600"/>
            <a:ext cx="4084920" cy="6324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36720" y="762120"/>
            <a:ext cx="325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uses the size of the individual box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and how they overlap in places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create visual intere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sm122p18lge"/>
          <p:cNvPicPr/>
          <p:nvPr/>
        </p:nvPicPr>
        <p:blipFill>
          <a:blip r:embed="rId1"/>
          <a:stretch/>
        </p:blipFill>
        <p:spPr>
          <a:xfrm>
            <a:off x="380880" y="304920"/>
            <a:ext cx="6400800" cy="6332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10280" y="53352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creates a sense of mo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ndian_layout%20copy"/>
          <p:cNvPicPr/>
          <p:nvPr/>
        </p:nvPicPr>
        <p:blipFill>
          <a:blip r:embed="rId1"/>
          <a:stretch/>
        </p:blipFill>
        <p:spPr>
          <a:xfrm>
            <a:off x="228600" y="228600"/>
            <a:ext cx="4362480" cy="6172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397480" y="603360"/>
            <a:ext cx="313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re the artist makes some figures large and close-up and some figures small to change the view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derstanding of the spac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prodromal_sample"/>
          <p:cNvPicPr/>
          <p:nvPr/>
        </p:nvPicPr>
        <p:blipFill>
          <a:blip r:embed="rId1"/>
          <a:stretch/>
        </p:blipFill>
        <p:spPr>
          <a:xfrm>
            <a:off x="4800600" y="609480"/>
            <a:ext cx="4075200" cy="5639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968400" y="873000"/>
            <a:ext cx="337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artist uses a different type compositional strateg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nkscape-0_45-comics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48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523880" y="5410080"/>
            <a:ext cx="61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artist tries a more experimental approach. Does it work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4726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80880" y="5105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you’ll need to figure out what your story is about.  Making a quick “story board” will help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is not what your comic will look like – just the basic stor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4684680" cy="5943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019920" y="380880"/>
            <a:ext cx="24382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n you need to start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“compose”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our panel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ink about making every area of the page visually interest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rt by lightly sketching out where things will g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460404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6095880" y="6858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n start fleshing out the figu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5880" y="289548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t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If you are going to include speech bubbles you shoud put them in before fleshing out your charact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718160" cy="647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19920" y="9907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w it is time for the details and shad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ayoutsuf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nishef1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telmanbats14"/>
          <p:cNvPicPr/>
          <p:nvPr/>
        </p:nvPicPr>
        <p:blipFill>
          <a:blip r:embed="rId1"/>
          <a:stretch/>
        </p:blipFill>
        <p:spPr>
          <a:xfrm>
            <a:off x="1066680" y="457200"/>
            <a:ext cx="39560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5715000" y="60336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quint at this and notice how the artist us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values”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create visual interest all over the pa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5_Bradley"/>
          <p:cNvPicPr/>
          <p:nvPr/>
        </p:nvPicPr>
        <p:blipFill>
          <a:blip r:embed="rId1"/>
          <a:stretch/>
        </p:blipFill>
        <p:spPr>
          <a:xfrm>
            <a:off x="228600" y="304920"/>
            <a:ext cx="4165560" cy="6248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032440" y="682560"/>
            <a:ext cx="33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uses the placement of the speech bubbles to help mak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isually dynami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11:09Z</dcterms:created>
  <dc:creator>ASB</dc:creator>
  <dc:description/>
  <dc:language>en-US</dc:language>
  <cp:lastModifiedBy>Brian Reverman [STAFF]</cp:lastModifiedBy>
  <dcterms:modified xsi:type="dcterms:W3CDTF">2012-10-08T01:54:43Z</dcterms:modified>
  <cp:revision>15</cp:revision>
  <dc:subject/>
  <dc:title>The layout</dc:title>
</cp:coreProperties>
</file>